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6AE-109F-4E81-A393-D90B4E0C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12F-0114-4FD0-AFF0-BD26B33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D628D-6FC8-4E33-B116-E23C864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C64F5-5158-462F-A7C1-87E311C7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31C5A-84C6-432B-9004-0DE3903D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B0217-4DC7-492E-A94F-2812C68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70429-FCD3-4B07-92C7-1F2A3F4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A4725-A42A-45B8-8792-FEE10011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82943-248F-4053-8A4E-67C6216D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C8A43-9501-4DE7-8D41-97D69246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90EF5-80A1-489B-8110-C0BF4A37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CF056-36D5-4E75-BB06-4AF25C75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02A-9C59-447F-AC26-7226D138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19417-6D3B-41EA-92F1-4441828B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E68FB-E72F-4929-B419-ACF4570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03F0-DEEA-4EE2-AED1-022C3B5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7A849-10A2-4B44-AEE4-CECECAB8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AAE9B-BE07-49A5-927D-CA6F621B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29521-0D55-41A3-A6D9-8200669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F9679-94FF-4987-BB74-6AEBE20F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6E553-0750-4198-A32E-35CA42F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129F-E52C-452A-BB55-00987E4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E0327-427A-420A-9FC1-A63352CE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672-338C-47FE-8186-ECDBBDA1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9DC0A-D6E6-418A-8A12-66DEB08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0E1A-0E0A-4898-9F1B-F8740ECE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567AF-B315-4508-B689-2D84216D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D7667-EF8E-47EE-B4F0-5710551B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FDF48-F0D9-470F-9D64-3F3D7D2E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5AD3D-66AA-4EB6-A3ED-BD76C5D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DF06E-C1D6-4931-88E5-3B15A838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20625-03C4-4320-A3B3-E7F3454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620E5-564F-4C7C-BD4E-7EBC4B9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3F9B7-60B2-435A-ACDC-8B4E003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BDA2-49F7-44B4-89B5-DBEA2D4A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9CE74-AD6E-4CF3-9371-9D88A94C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20202-5954-436A-B60F-B8D7EC86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3DC63-BCE7-4D10-9E15-B1FDF13A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8094B-49D8-45E1-946E-6420351C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2C1F8-7FC7-43D7-8F1C-63D13C27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4FBE2-8B61-4336-8756-565FAB01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28361-C35A-4516-A2AE-F9344E2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E406B-41FE-470D-9A67-387EB0A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523C0-A5E0-4201-B782-82B89CC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7AB74-A58E-4BCD-818A-C70EC72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CD8-B903-40FC-8C83-8BDE1C32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462D2-67E5-4F0A-AF6C-8E5C4EC3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37299-72C5-4E8D-BE16-7949A15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031D8-8405-4D13-9452-CB051F1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4E202-7739-44BA-B405-B0A84574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6B342-425E-49BA-B9DD-B00BC002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610D5-AFC9-440C-A3EC-65EC161E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62CF9-05D7-42EC-94E4-E7E36953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11FD2-BDBB-4BBD-93DB-D55032A0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9EE24-723B-476C-8E51-1CF89FCD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6A750-461A-4B06-871F-E3B54D2C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11F6-0B9E-437C-B314-06A9DFA3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026FB-D861-4D64-9631-E18BAE5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647AF-C4D7-46CC-8024-4B5E5D72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700C-1AB0-4BC9-BBFE-E6AD16D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EE6E1-3DB2-484B-BBF2-F0E52EA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B4F36-0AAA-4B58-8D0C-6FE6CE09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9A368-F90B-4593-8A46-26D67E8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34649-96B0-4D0D-A98F-58BC21AD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D305F-E061-4620-A6E7-C12E03F9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4D8C5-9EEF-4987-AAB8-69B6CE1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958F0-8609-4F12-94F9-9C857D00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C5D5-0C07-4AA2-B2BC-7B0E88B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E9305-48F0-4627-AAE1-B00F4A7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9362F-48B7-45A3-BDD1-1BE759B1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F1044-B4F1-42A2-BCD6-FFFA0DD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4F9D0-54E3-4405-B4B9-E822309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9AAA0-32F2-4E0D-83CB-D06B85E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14ED2-7FA1-4B3F-A53F-5898302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FD4DB-A7EA-4E21-A4FC-6735DF7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D93DB-1BFD-496B-9234-3AAA5F40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D4B47-C2EF-4325-B245-A4135202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3DB62-E3BD-4668-AAE7-E9818B8B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199-77A0-4E7D-A0BA-A723B18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5C07A-1B50-448E-A488-A05AE50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8796A-4536-4642-A2E3-4232AFBD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921B2-D94C-49E5-B08E-666FA56D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B993F-2970-4C32-A883-CD79E64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6404F-5497-4795-AB90-B496C673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EE349-4D2C-4093-8152-EF1187B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7DA9E-D0E5-46BA-B76E-8F6EC07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D8D18-755C-410B-B6F0-2824D6B1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465E3-7DDC-4255-8AD2-9194C04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9E2E3-6AC2-4ECE-8CA3-1E6F30C4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D6DE-45D0-499D-8BFD-72062A3A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C468D-35C8-45CD-B1A8-B5642022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38E54-6DDA-4A1B-B696-8511997D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871CD-4111-47DC-A649-FA77485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732D6-882E-4F03-96F4-D2CB56A7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2C6B3-DF12-4783-85D8-40CE84C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25D3F-4B81-4FE7-95E9-2ED67119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FF173-F044-434B-8AF0-9DFC1FF2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BBD48-C269-43A8-A76D-3304D19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54B27-C0B9-494E-A080-AA00530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9067F-ED84-4EFF-999E-F8088A3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9E77-5E61-4B8E-8226-3FAB82D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52338-6354-474E-B38D-A1821D8C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7A7D7-D1BE-4F0E-8E42-8071EECD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23087-4E6D-4B98-98D9-ADD74117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B082D-FB45-491F-854C-61808981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61359-0369-4503-BE04-6A154F6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7DEA2-0B14-49A5-AD40-716633B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D8F09-1710-4B70-9AE0-AB58BA7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35F05-984B-461B-84DA-BA8A2BD1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E1246-5360-4AD0-9491-55A9D9D2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DE218-1A94-48F5-A13B-EEB6B47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65C-5B90-43D4-8FB3-1642C994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8F2F-9AA2-4C2A-985E-DDC09A5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E47AF-752E-4F8E-B97B-B699D10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13BC9-BF33-4CC3-BB13-1C84C66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B9D19-C242-47D3-A763-ABA8A5F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CBE1D-913A-4F59-98A2-AA16CD30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846DA-65ED-4AAB-8348-4F6D15DD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0FD50-0128-41C6-9AA7-6420866A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7ECF0-6107-4FC4-8D44-9C0C6027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1AF53-A48E-4D9C-82CC-89689D1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20A62-1464-4A9B-B14C-FDCC298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2FA73-A772-4480-AE6A-38203D23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8C45-64CE-4B09-A584-3D1ED93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00492-68EE-418C-AFB8-0C1C71A7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088C4-3947-40AA-993F-51EDDF5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AA978-E8FE-4232-BE57-4E8C01A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8797A4-5225-4769-A6F8-ED47287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3AC4C-6478-4559-BD83-D397A4EA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241D4-2AAB-465C-B894-C4E1AACE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6A124-EBE7-4914-B8D2-90BA790D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3A59BE-5F66-4F2B-B4EA-4E0EFB32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6DF2C-4682-4D15-BBE8-C1731B90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B4D06-70B2-451A-9F4C-3FD8805B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0378-30A6-4BA5-A4F4-9A26E458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E826C-14D0-4231-AEE8-C3E3CA19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8F2161-8C10-4F77-9390-415B1C9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2365E-A7B7-43E2-93EE-D114670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C64C5-CFD5-4594-962B-2532E8B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DAD8B-FE5D-4A79-B7B0-8064D1F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2D5B1-DD2B-4C7E-AD95-36ABFFE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B91AE-AB60-4A12-A9E3-9BFDDCA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0722D-EA3B-4005-AA4C-A84275A8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F0EB0-3B09-4878-B67F-7FD1337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623EC-8AB8-4CB8-9578-2703FDE8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BE75-9D12-4B74-B37B-EC98D4AD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5F3E0-1777-4A1A-B3AC-E99E2E53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66089-1DD5-4033-A16B-C0A74E7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4FB09-1049-4B00-A2D1-3AECE0E0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A3AB3-772D-4473-8CDA-78AF8176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1D14A-F6A5-4E38-B64F-7AE8BF23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DFE72-BEC0-403E-B564-ACA9386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2F8E6-4BE1-497C-BC86-A2A07DA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EA9784-0D5B-4411-A9DA-38164217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F1602-312D-47A3-AE72-22BD11AB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625E7-8613-4648-A749-C14F2DCC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78AA-4E18-4F07-A0D1-86F6186D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ABAF0-9416-415E-89C4-2996674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E7230-0914-47A8-97B7-E2C5021D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8DEC7C-50C7-4DBC-BA97-DCCE1FEA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2B2A1-BB35-4D0A-B7EF-9CF970C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8AE13-E7E7-48C2-ABC4-5A03D5A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A0BA7-417E-4EFC-98F9-7D28076A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9F3DD-DA0D-403A-98D4-4F06383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ADE8C-94ED-4EBE-9DDD-EE21850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0189E-D224-47AE-9F67-7B506C8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96E0B-B68C-4FAB-9A14-5F47A12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D967-CA38-4DF8-96A3-F33FC5E3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F2B73-A72D-47BA-8946-914536EA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803C6-DAB0-4289-A4F8-CCAAEAAE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DEFC4-C74F-4EC0-B04D-0E3DB7C6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9CE1A1-93C2-4BEE-8485-EF7D466E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F86E7C-97A4-41A2-A615-F8BC7957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22B3E1-6058-4E84-9FB0-20D0A8D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6618C-F455-47DE-BAF5-678566D8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78F644-E6DE-4119-B9FC-B514BE6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F8ADD-9C80-4FCF-97E0-768052D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EDB16-CD6D-42A2-946B-42BE3E5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0F2B-2F3F-45C5-9F34-109F2B0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0974BB-50A4-480C-9D75-8A6F2DA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86314F-8099-411A-924D-7E4975A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E5B54-C12E-4B20-B840-0B9EDE4B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D42ACF-BCBA-4D66-AFC8-D4AA57AA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DDA7E-9EB7-4E04-B564-546E3FC3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8D872B-9809-4DDF-AFFF-ADEA28C1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EFE1E-DB2C-4836-82F5-188E52DA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076ED-E21F-4178-866F-E6F21436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C40F36-7AFF-4E89-933E-F276408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0A026-D317-4DC4-9A9C-57140C2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5E3D-A22F-498C-82EC-C12869A0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AB90A6-F0FF-4595-B383-2DF2BBBC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57C7B2-D3CC-4DAC-BC97-C99ECA6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C6160C-3E46-4E1A-8933-EF7EE21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4955D-8F81-43AE-B383-8EC08DE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C0B72-56BE-41E1-A539-FA88B683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80459D-1BB4-4770-950E-44B53BE6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8DAE8-F04C-4242-BDBB-BE325718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4D85-A9B3-423A-9A91-1A039CFD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DD11-DF6F-4361-AE34-CF4EE65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9DF-4457-408C-A8EA-56ED5C51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C126-FA8B-45EA-9F9B-DA81807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E41C-6DA3-4DF8-823D-36C4F3A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804F-39E9-4514-A393-528806D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429E-FF56-42F1-A043-23AF2AD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9AC3-D0D6-4178-B12C-25E3134A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6E22-F47B-4E64-8DAA-FE127058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CE74-3A0E-49FB-826B-6EDB0A9D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A6D9-20E6-40C1-B859-7A137F11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4DC1-7735-4826-A3FA-4EA76E6F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C77D-6028-4844-97E9-8EC85DD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2CF-849A-4506-90D9-5D6A3099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D2F2-BE4F-4B44-95B6-4A447DE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A735-91E3-4440-8970-B50ACDA7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0A96-8714-49AE-9D1E-813EA686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2283-8B0D-4142-9607-8AA165BA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B1AF-8876-4F52-B2AD-99653BE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8927-721C-441B-BB1B-1F702EE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EE2E-0767-4B21-AA74-ABC9CFC5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E310-01DC-432A-B100-D1336938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6DE6-EC86-4063-BCBF-4CC04853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B3D5-2AB0-4A88-83B9-DD8A7782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AF4-454F-4BDD-907D-FF65E308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9C71-27F7-4B2A-8B48-C253ED4C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B5590-DE3F-4CD9-82C9-651C5EAC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787E-A8BF-466B-85F9-CB3CE24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6F77-013C-4BA3-9694-119DB35B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512D6-33D0-402C-809A-FECA7B0E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C3C9-E879-4DE4-80B2-E161461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9713-F949-4A88-B3B2-2BF5152A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CE824-B833-4428-AE86-C3AE68A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5040-E812-437A-A678-DF97C33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93F7-8CFE-445C-A77A-9A442FCB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52D-5B34-4603-BD6E-5A87778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C75B-9586-4869-ADE9-A8752D54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BA02-FA43-4739-BE24-183CA4A5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7CBF-DE3D-4EA5-8DFA-D31049B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0B3B-0B81-4ABC-B3B6-E7D1D4E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EC12-9826-4078-9754-0A4C755B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65F3E-31E3-4B18-8B02-68D5FC88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5D7FE-ED44-4625-9180-2129773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D6C2F-AFFC-4163-8371-4F7B8244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282A-E086-4048-88FA-3B4F2D2A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7662-599C-41D0-9C98-EC94970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30A-202E-4A0D-95C0-2512929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85B6-C980-4C1F-B1C1-A873DEA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FCC6-036D-4FC6-8CFD-377CCB27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37165-6EE9-453A-AFB4-CEF3CF73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EA9B-8FA0-463A-B22B-DC58F534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E6D5-B6D1-4868-9543-A9EC4DA8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1DCD8-B010-44F9-B1D5-A7409E1B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80E4E-28C5-4127-8FF7-AEF3C83F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C3B9-FC1D-4796-A696-5A204D46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056CE-0D77-469E-87B3-591ADD1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03A1-AE26-4C6E-8C3A-4694735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FF2-DC8A-4792-8E75-0DAF317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280FA-D277-4A4F-B7DC-8366877E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6115-A336-46E1-BFBD-C028079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C92D8-F242-449E-91DC-A23C4078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128C-AB2A-4920-90C4-A7EF6158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DAB71-DB36-495F-AEF2-10B2D1A5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A7978-969E-4EC4-964A-74FF39FC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1E6E6-CCCD-411F-8928-A9CB407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AB95-0195-44C3-B686-B5B2F0D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6774-8297-4C86-A8BC-66C1D4AE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8687-BD96-4D96-87A0-36B4EC4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CD4-E556-482F-AF0C-C90B62A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8C42-60B5-4E5E-92EB-640A2F1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B49D-3ED5-48B9-9222-B636F8A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EF296-4DBD-426B-92E0-91D7603D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3BFD-80B8-4C16-8C26-DA0FDCA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A069-F1C2-4D1F-93A0-E6A318D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80FE2-C287-415B-9205-455FCC8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FE24-BD9D-404E-BEA8-A4108E8E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D5D12-37F4-46DD-875E-744E3C88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96F49-BAFB-473D-AEB0-B977E86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B25B2-BC03-4DE9-A603-5ACF9669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9BD-C64A-40AC-A8F1-EF65E7094F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C435-239A-41B5-BEDF-5007C6CF4D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A88-BE09-451B-8DA4-933C8D33D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715B-5BF9-4670-8173-766708CDFA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88C9-DFEE-48E6-9699-E4B6632CA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285-4E73-4EFF-AC10-F2538F715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7D9-935F-4F9E-B2C7-27A323C55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CE66-E7BF-4BF5-ABB8-B7E3620216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FE69-CBE0-4CA7-ADFE-BCA4EF795B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FD27-565C-492A-BA82-AF163B00D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B84-72DE-4224-A822-455277A48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3593-E394-4D0A-97B1-EF1D6636E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65F-2469-4A59-BD75-7EADF8D31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A33E-3B09-445B-8EF2-269F936EAF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0B2E-7EA4-4569-81BE-2230E2A48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E39-8DFC-41C3-BF59-AD8AD6125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78F4-AE26-4808-9E68-15A578223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93A8-D78E-4356-9125-8E96C7F30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EB81-9FD9-4B09-A788-E1CB873A73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FB2-B61C-4657-9379-404410582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6332-554B-45D8-B58C-9F5C3F3C4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BE6-60D1-4091-940E-52ECA32D31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46A2-216C-452C-BE82-73C9A85AA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E1F6-D9F1-4833-B33A-2E1197386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ABA2-F2F4-4CD5-8DF1-FB639F32F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CA68-9B11-4B95-B88A-751242C32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A0F-2DB0-4BBA-9F56-2B7FA156B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31E-74BF-484E-85DE-A707E47E40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EBE-793B-4022-B305-02B9B0058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AE0-B83C-47DC-8477-4F4DB6880A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030-88CA-4047-B67B-9C6531F442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2EF-635D-4E59-8E70-2DDD172BED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0F5A-469E-4B96-9546-36999E8F7C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585-BF27-4BAE-9EFB-34E6E0EF3D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9DB-1587-4243-9DF3-3A5224EBD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BBF5-0701-4421-B00E-5C76FC27C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767-E134-4032-9338-00A61B06E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16D-8717-4540-947C-AF3960792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AF41-67B3-4C46-B65E-E1C20A4C4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68F-4231-478D-824F-B58EAF005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9EA-4E2D-419E-9018-4F95B1320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3FF-2FCD-48F1-9032-F030CD7EC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8520" y="3024360"/>
            <a:ext cx="888696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533520" y="155520"/>
            <a:ext cx="8340480" cy="6548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6127920" y="557532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466560" y="2614680"/>
            <a:ext cx="8210880" cy="1628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403280" y="3587760"/>
            <a:ext cx="1009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3280" y="933480"/>
            <a:ext cx="8677440" cy="4991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56360" y="50990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423720" y="1343160"/>
            <a:ext cx="8296560" cy="41716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3780000" y="3933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4067280" y="4724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399960" y="1138320"/>
            <a:ext cx="8344080" cy="4581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2268360" y="5027760"/>
            <a:ext cx="15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09680" y="1019160"/>
            <a:ext cx="8324640" cy="48196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637236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859280" y="43070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619280" y="5084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28600" y="1271520"/>
            <a:ext cx="8686800" cy="4314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6084720" y="1944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4140360" y="318456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059280" y="403380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6804000" y="437976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1000" y="990720"/>
            <a:ext cx="8982000" cy="5457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492360" y="394812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596360" y="390384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3564000" y="52578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524720" y="5272200"/>
            <a:ext cx="719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47840" y="2228760"/>
            <a:ext cx="8248320" cy="2400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427640" y="275112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651640" y="404820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19160" y="128520"/>
            <a:ext cx="8905680" cy="6600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745164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752472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3995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6746760" y="51134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7596360" y="508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7567560" y="61088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9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